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73D-6607-4902-8299-9BA55F80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129-EECE-4ECC-8A15-E6B9A53E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A15-C22B-49F8-8DBE-C6817907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48E-B78C-4ACE-8379-6C89DCA9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EB66-B257-47B6-8702-690AEC0C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DD5F-02D9-40E5-861A-3A531657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D066-90A1-4373-9546-40E4BEFF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6E7C-732D-4D6D-98CD-886ACB2B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7DE1-0F57-4257-ABB3-B47A0BBC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E4D3-7509-47A1-BC17-BA6D3D61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8855-25D2-4229-80EA-29C525E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5C0-1E46-465F-AD21-2985E2C1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B7F4-9AFE-4DC8-8E1D-019C27B1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106B-DD87-497C-B30F-66F45EC2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13D5-29C8-4795-BE14-9D485E0E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4FCD-FDA7-4768-9450-3EF81C1B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3803-2F42-4415-89C9-22935718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AF9-2C6A-4B00-8A51-957A23FE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F66-6FCA-4B88-BC73-A3FD561B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F8C-28AC-43DD-8A5E-E7037F36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700-84A4-4CE7-A8AD-7433ECAA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F94-62B5-47BA-827B-96ED8736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55C-828A-49B0-A58D-7320F234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421-8DBA-400F-A3DC-2F1F387B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8B0E-99EF-4898-8C4F-E4CA8A37DFE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AB76-DF5D-4BE4-A6AF-5309CC2CEB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colink\Local Settings\Temporary Internet Files\Content.IE5\97JP7G3P\MPj04403160000[1].jpg"/>
          <p:cNvPicPr/>
          <p:nvPr/>
        </p:nvPicPr>
        <p:blipFill>
          <a:blip r:embed="rId3"/>
          <a:stretch/>
        </p:blipFill>
        <p:spPr>
          <a:xfrm>
            <a:off x="-6480" y="593712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colink\Local Settings\Temporary Internet Files\Content.IE5\97JP7G3P\MPj04403160000[1].jpg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83F3-B063-4B9A-A781-CCD25C23541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14C8-65F2-4026-AFF4-FD7614CCD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C:\Documents and Settings\colink\Local Settings\Temporary Internet Files\Content.IE5\RZF77SXO\MCj04325480000[1].png"/>
          <p:cNvPicPr/>
          <p:nvPr/>
        </p:nvPicPr>
        <p:blipFill>
          <a:blip r:embed="rId1"/>
          <a:stretch/>
        </p:blipFill>
        <p:spPr>
          <a:xfrm>
            <a:off x="1054080" y="1822320"/>
            <a:ext cx="7169040" cy="4127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5142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Creato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colink\Local Settings\Temporary Internet Files\Content.IE5\97JP7G3P\MPj04403160000[1].jpg"/>
          <p:cNvPicPr/>
          <p:nvPr/>
        </p:nvPicPr>
        <p:blipFill>
          <a:blip r:embed="rId3"/>
          <a:stretch/>
        </p:blipFill>
        <p:spPr>
          <a:xfrm>
            <a:off x="-6480" y="593712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90" name="music.mp3" descr=""/>
          <p:cNvPicPr/>
          <p:nvPr/>
        </p:nvPicPr>
        <p:blipFill>
          <a:blip r:embed="rId4"/>
          <a:stretch/>
        </p:blipFill>
        <p:spPr>
          <a:xfrm>
            <a:off x="-30492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3832-8307-4552-A244-4678C5E34320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DA8A-C990-4D68-B14E-3A70F2B1EE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Group’s Miss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reate entertainment for the people listening to th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thors job is to inspire the liste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5FCB-CB36-419F-A7AF-69294ABB683A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6B2E-4E59-4F6B-B913-7C6F6C2D18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colink\Local Settings\Temporary Internet Files\Content.IE5\I46F7AGD\MCj04404040000[1].png"/>
          <p:cNvPicPr/>
          <p:nvPr/>
        </p:nvPicPr>
        <p:blipFill>
          <a:blip r:embed="rId1"/>
          <a:stretch/>
        </p:blipFill>
        <p:spPr>
          <a:xfrm rot="809400">
            <a:off x="5866920" y="3505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We Re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ors repres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&amp; independent music art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g Wri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mma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m Produc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2F7C-78C0-4FD7-BB51-D6B7E8C3DE90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F879-A18C-45A9-9D21-B68BDF0BD1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colink\Local Settings\Temporary Internet Files\Content.IE5\Z2VPR2HM\MCj02412550000[1].wmf"/>
          <p:cNvPicPr/>
          <p:nvPr/>
        </p:nvPicPr>
        <p:blipFill>
          <a:blip r:embed="rId1"/>
          <a:stretch/>
        </p:blipFill>
        <p:spPr>
          <a:xfrm>
            <a:off x="5711760" y="3193920"/>
            <a:ext cx="2371680" cy="231156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pyright an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er-to-peer Opi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Canadian music creators want to legalize p2p file sha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gue it’s a way for foreign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listen to their music and lear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their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creators specially in the US believe file sharing should be controlled be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9ECE-D1A0-434B-B57D-7458B2898CD3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2B3D-70D2-48E9-9004-2281CEFE13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pyright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Peer-to-peer Opin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Music Creators, copyright is very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recognition on their work depends much on the copyright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5A46-5042-4501-BF7F-3C52A7C056C2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C2F5-CF80-4830-909A-D89DF3D740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Documents and Settings\colink\Local Settings\Temporary Internet Files\Content.IE5\RZF77SXO\MMj01783080000[1].gif"/>
          <p:cNvPicPr/>
          <p:nvPr/>
        </p:nvPicPr>
        <p:blipFill>
          <a:blip r:embed="rId1"/>
          <a:stretch/>
        </p:blipFill>
        <p:spPr>
          <a:xfrm>
            <a:off x="655308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changes do we want in copyright law?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ant iTunes and other music sharing sites to pay for the song samples off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ant file sharing to be legal b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the one sharing it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AA4F-E07E-4E9A-BD05-502B83DCDE40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9611-DC04-49E9-94D2-F19C523131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colink\Local Settings\Temporary Internet Files\Content.IE5\I46F7AGD\MCj04338540000[1].png"/>
          <p:cNvPicPr/>
          <p:nvPr/>
        </p:nvPicPr>
        <p:blipFill>
          <a:blip r:embed="rId1"/>
          <a:stretch/>
        </p:blipFill>
        <p:spPr>
          <a:xfrm rot="20937000">
            <a:off x="4114440" y="3809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re the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y charge for sample music the creators will get more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creative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6B45-C240-4967-B1EE-8A3809FD07F9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A4A4-111C-4839-B818-0C81846BBC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colink\Local Settings\Temporary Internet Files\Content.IE5\97JP7G3P\MPj04450040000[1]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181480" y="2433600"/>
            <a:ext cx="3240360" cy="41958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5:19:50Z</dcterms:created>
  <dc:creator>user</dc:creator>
  <dc:description/>
  <dc:language>en-US</dc:language>
  <cp:lastModifiedBy>user</cp:lastModifiedBy>
  <dcterms:modified xsi:type="dcterms:W3CDTF">2010-02-10T15:18:06Z</dcterms:modified>
  <cp:revision>14</cp:revision>
  <dc:subject/>
  <dc:title>Creators</dc:title>
</cp:coreProperties>
</file>